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0344A-D9B7-4809-B7E6-0CA961C63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63682-5EA0-4529-BD60-6526B58B0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0F575-B78E-4BDC-B05A-EC6D52F03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233C7-7CEC-42FA-AA3C-C59EA324C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CB1A6-8BA0-4896-8988-D9076B514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BE038-0951-4E86-B12F-86A54B038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0B5DE-2750-47F0-B7C7-BBC3366DA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014DC-F42B-4868-B25E-16A7B0B4B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05A34-18A5-4723-B644-09FD3C93E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5D04B-6F09-4F3B-BADA-3132864BF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35ADF-B920-4DF3-BBA0-6D7AFE160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99E21-1816-45F2-9D63-2A3A2C272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18AC-5ABF-4B42-B9D1-6D109F3D9B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Архитектура клиент-сервер и базы данных</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верные СУБД. Работа с наборами данных и с</a:t>
            </a:r>
            <a:r>
              <a:rPr b="0" lang="en-US" sz="1800" spc="-1" strike="noStrike">
                <a:solidFill>
                  <a:srgbClr val="000000"/>
                </a:solidFill>
                <a:latin typeface="Arial"/>
              </a:rPr>
              <a:t> </a:t>
            </a:r>
            <a:r>
              <a:rPr b="0" lang="ru-RU" sz="1800" spc="-1" strike="noStrike">
                <a:solidFill>
                  <a:srgbClr val="000000"/>
                </a:solidFill>
                <a:latin typeface="Arial"/>
              </a:rPr>
              <a:t>отдельными записями</a:t>
            </a:r>
            <a:r>
              <a:rPr b="0" lang="en-US" sz="1800" spc="-1" strike="noStrike">
                <a:solidFill>
                  <a:srgbClr val="000000"/>
                </a:solidFill>
                <a:latin typeface="Arial"/>
              </a:rPr>
              <a:t> </a:t>
            </a:r>
            <a:r>
              <a:rPr b="0" lang="ru-RU" sz="1800" spc="-1" strike="noStrike">
                <a:solidFill>
                  <a:srgbClr val="000000"/>
                </a:solidFill>
                <a:latin typeface="Arial"/>
              </a:rPr>
              <a:t>в серверных СУБД. Защита данных в серверных СУБД. Методы блокировки записей. Целостность данных. Транзакции. Язык </a:t>
            </a:r>
            <a:r>
              <a:rPr b="0" lang="en-US" sz="1800" spc="-1" strike="noStrike">
                <a:solidFill>
                  <a:srgbClr val="000000"/>
                </a:solidFill>
                <a:latin typeface="Arial"/>
              </a:rPr>
              <a:t>SQL</a:t>
            </a:r>
            <a:r>
              <a:rPr b="0" lang="ru-RU" sz="1800" spc="-1" strike="noStrike">
                <a:solidFill>
                  <a:srgbClr val="000000"/>
                </a:solidFill>
                <a:latin typeface="Arial"/>
              </a:rPr>
              <a:t> и его роль в технологии клиент-серв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рверы реляционных и нереляционных баз данных могут быть различного вида и масштабов. Большинство программ-серверов баз данных - такие как Oracle7 и Sybase System 11 - выполняются на выделенных машинах. При этом серверы баз данных работают на разнообразных процессорах и в различных операционных средах. Следовательно, у создателей систем клиент-сервер имеется выбор для удовлетворения потребностей прикладных программ. Oracle, например, работает на большинстве RISC- и CISC-ориентированных Unix-системах, включая HP/UX фирмы Hewlett-Packard и Solaris компании Sun. Кроме того, Oracle выполняется на серверах, использующих процессоры Intel под управлением SCO Unix и Netware компании Nov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изготовители серверов баз данных, такие как компании Borland (Interbase) и Sybase (SQL Server), предоставляют версии своих серверов для запуска на системах-клиентах (например, в процессах Microsoft Windows 3.1 или Windows 95). Это позволяет разработчику систем клиент-сервер создавать клиентскую часть программ, избежав необходимости немедленной покупки отдельного сервера баз данны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реляционных баз данных (известные также как SQL-серверы или SQL-процессоры) составляют большинство применяемых в настоящее время серверов. Однако, в нескольких секторах рынка их догоняют объектно-ориентированные и многомерные серверы баз данны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объектно-ориентированных баз данных, такие как GemStone компании GemStone Systems, хранят информацию в форме объектов, что больше подходит для средств разработки программ-клиентов, которые работают с чисто объектной моделью.</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ее того, в объектно-ориентированных СУБД лучше, чем в реляционных, организовано хранение сложных структур данных. Серверы многомерных баз данных, такие как Essbase Analysis Server фирмы Arbor Software Corp., обеспечивают более понятное конечным пользователям представление данных и обладают новыми средствами оперативного анализа (OL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ункции серве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рверы баз данных занимаются не только обслуживанием данных. В них предусмотрены также механизмы блокировок и элементы управления многопользовательским доступом, которые обеспечивают защиту данных от опасности параллельного доступа. Кроме этого, серверу баз данных приходится ограждать данные от несанкционированного доступа, оптимизировать запросы к базе данных, обеспечивать кэширование и предоставлять место для размещения словаря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ве другие важные особенности, на которые стоит обратить внимание, - способность сервера обеспечивать целостность ссылочных данных и обоюдный контроль завершения транзакции. </a:t>
            </a:r>
            <a:r>
              <a:rPr b="0" i="1" lang="ru-RU" sz="2800" spc="-1" strike="noStrike">
                <a:solidFill>
                  <a:srgbClr val="000000"/>
                </a:solidFill>
                <a:latin typeface="Arial"/>
              </a:rPr>
              <a:t>Ссылочная целостность данных</a:t>
            </a:r>
            <a:r>
              <a:rPr b="0" lang="ru-RU" sz="2800" spc="-1" strike="noStrike">
                <a:solidFill>
                  <a:srgbClr val="000000"/>
                </a:solidFill>
                <a:latin typeface="Arial"/>
              </a:rPr>
              <a:t> (referential integrity) - это механизм, обеспечивающий каждому внешнему ключу соответствующий первичный ключ. </a:t>
            </a:r>
            <a:r>
              <a:rPr b="0" i="1" lang="ru-RU" sz="2800" spc="-1" strike="noStrike">
                <a:solidFill>
                  <a:srgbClr val="000000"/>
                </a:solidFill>
                <a:latin typeface="Arial"/>
              </a:rPr>
              <a:t>Обоюдный контроль завершения транзакций</a:t>
            </a:r>
            <a:r>
              <a:rPr b="0" lang="ru-RU" sz="2800" spc="-1" strike="noStrike">
                <a:solidFill>
                  <a:srgbClr val="000000"/>
                </a:solidFill>
                <a:latin typeface="Arial"/>
              </a:rPr>
              <a:t> (two-phase commit) - гарантия того, что ваши данные не будут повреждены даже при аппаратном сбо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помощью хранимых процедур, триггеров и правил разработчики могут составить программу непосредственно самого сервера баз данных и, таким образом, появляется еще одно место для размещения логики программы. </a:t>
            </a:r>
            <a:r>
              <a:rPr b="0" i="1" lang="ru-RU" sz="1600" spc="-1" strike="noStrike">
                <a:solidFill>
                  <a:srgbClr val="000000"/>
                </a:solidFill>
                <a:latin typeface="Arial"/>
              </a:rPr>
              <a:t>Хранимые процедуры</a:t>
            </a:r>
            <a:r>
              <a:rPr b="0" lang="ru-RU" sz="1600" spc="-1" strike="noStrike">
                <a:solidFill>
                  <a:srgbClr val="000000"/>
                </a:solidFill>
                <a:latin typeface="Arial"/>
              </a:rPr>
              <a:t> (stored procedures) - это группа предложений на языке SQL и процедурная логика, которые разработчики могут компилировать и хранить на сервере баз данных в качестве объектов. Программы-клиенты способны выполнять хранимые процедуры, также как и другой вид хранимых процедур или триггеров, путем посылки сообщений серверу баз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Триггеры</a:t>
            </a:r>
            <a:r>
              <a:rPr b="0" lang="ru-RU" sz="1600" spc="-1" strike="noStrike">
                <a:solidFill>
                  <a:srgbClr val="000000"/>
                </a:solidFill>
                <a:latin typeface="Arial"/>
              </a:rPr>
              <a:t> (triggers) - это хранимые процедуры, которые активизируются автоматически, как только серверу баз данных встречается связанное с данными событие. </a:t>
            </a:r>
            <a:r>
              <a:rPr b="0" i="1" lang="ru-RU" sz="1600" spc="-1" strike="noStrike">
                <a:solidFill>
                  <a:srgbClr val="000000"/>
                </a:solidFill>
                <a:latin typeface="Arial"/>
              </a:rPr>
              <a:t>Правило</a:t>
            </a:r>
            <a:r>
              <a:rPr b="0" lang="ru-RU" sz="1600" spc="-1" strike="noStrike">
                <a:solidFill>
                  <a:srgbClr val="000000"/>
                </a:solidFill>
                <a:latin typeface="Arial"/>
              </a:rPr>
              <a:t> (rule) - это специальный тип триггера, который проверяет данные до внесения их в базу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льшая часть имеющихся на данный момент хранимых процедур, триггеров и правил обладает весьма узкой специализацией и отличающимися возможностями. SQL Server способен запускать только один триггер для операции вставки, в то время как CA-OpenIngres обеспечивает работу нескольких триггеров. Более того, расширения процедур SQL у разных изготовителей разны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менительно к системам баз данных архитектура "клиент-сервер" интересна и актуальна главным образом потому, что обеспечивает простое и относительно дешевое решение проблемы коллективного доступа к базам данных в локальной сети. В некотором роде системы баз данных, основанные на архитектуре "клиент-сервер", являются приближением к распределенным системам баз данных, конечно, существенно упрощенным приближением, но зато не требующим решения основного набора проблем действительно распределенных баз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отелось бы отметить что сердце большинства систем клиент-сервер - серверы баз данных, обеспечивающие надежный доступ к разделяемым данным для программ-клиентов, которые обращаются к функциям СУБД. Обычно клиенты по вычислительной сети посылают запросы серверу в форме предложений на языке SQL. Сервер интерпретирует их и пересылает соответствующие данные обратно клиент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ерверы баз данных</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рмин "сервер баз данных" обычно используют для обозначения всей СУБД, основанной на архитектуре "клиент-сервер", включая и серверную, и клиентскую части. Такие системы предназначены для хранения и обеспечения доступа к базам данных.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тя обычно одна база данных целиком хранится в одном узле сети и поддерживается одним сервером, серверы баз данных представляют собой простое и дешевое приближение к распределенным базам данных, поскольку общая база данных доступна для всех пользователей локальной се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нципы взаимодействия между клиентскими и серверными частями</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оступ к базе данных от прикладной программы или пользователя производится путем обращения к клиентской части системы. В качестве основного интерфейса между клиентской и серверной частями выступает язык баз данных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Это язык по сути дела представляет собой текущий стандарт интерфейса СУБД в открытых системах. Собирательное название SQL-сервер относится ко всем серверам баз данных, основанных на SQL. Соблюдая предосторожности при программировании, некоторые из которых были рассмотрены на предыдущих лекциях, можно создавать прикладные информационные системы, мобильные в классе SQL-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ерверы баз данных, интерфейс которых основан исключительно на языке SQL, обладают своими преимуществами и своими недостатками. Очевидное преимущество стандартность интерфейса. В пределе, хотя пока это не совсем так, клиентские части любой SQL-ориентированной СУБД могли бы работать с любым SQL-сервером вне зависимости от того, кто его произве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едостаток тоже довольно очевиден. При таком высоком уровне интерфейса между клиентской и серверной частями системы на стороне клиента работает слишком мало программ СУБД. Это нормально, если на стороне клиента используется маломощная рабочая станция. Но если клиентский компьютер обладает достаточной мощностью, то часто возникает желание возложить на него больше функций управления базами данных, разгрузив сервер, который является узким местом всей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дним из перспективных направлений СУБД является гибкое конфигурирование системы, при котором распределение функций между клиентской и пользовательской частями СУБД определяется при установке систе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еимущества протоколов удаленного вызова процедур</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отоколы удаленного вызова процедур особенно важны в системах управления базами данных, основанных на архитектуре "клиент-сервер".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первых, использование механизма удаленных процедур позволяет действительно перераспределять функции между клиентской и серверной частями системы, поскольку в тексте программы удаленный вызов процедуры ничем не отличается от удаленного вызова, и следовательно, теоретически любой компонент системы может располагаться и на стороне сервера, и на стороне клиент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вторых, механизм удаленного вызова скрывает различия между взаимодействующими компьютерами. Физически неоднородная локальная сеть компьютеров приводится к логически однородной сети взаимодействующих программных компонентов. В результате пользователи не обязаны серьезно заботиться о разовой закупке совместимых серверов и рабочих станц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ипичное разделение функций между клиентами и серверами</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типичном на сегодняшний день случае на стороне клиента СУБД работает только такое программное обеспечение, которое не имеет непосредственного доступа к базам данных, а обращается для этого к сериеру с использованием языка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некоторых случаях хотелось бы включись в состав клиентской части системы некоторые функции для работы с "локальным кэшем" базы данных, т.е. с той ее частью, которая интенсивно используется клиентской прикладной программой. В современной технологии это можно сделать только путем формального создания на стороне клиента локальной копии сервера базы данных и рассмотрения всей системы как набора взаимодействующих 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другой стороны, иногда хотелось бы перенести большую часть прикладной системы на сторону сервера, если разница в мощности клиентских рабочих станций и сервера чересчур велика. В общем-то при использовании RPC это сделать нетрудно. Но требуется, чтобы базовое программное обеспечение сервера действительно позволяло это. В частности, при использовании ОС UNIX проблемы практически не возникаю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ребования к аппаратным возможностям и базовому программному обеспечению</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бования к аппаратуре и программному обеспечению клиентских и серверных компьютеров различаются в зависимости от вида использования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разделение между клиентом и сервером достаточно жесткое (как в большинстве современных СУБД), то пользователям, работающим на рабочих станциях или персональных компьютерах, абсолютно все равно, какая аппаратура и операционная система работают на сервере, лишь бы он справлялся с возникающим потоком запросов.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 если могут возникнуть потребности перераспределения функций между клиентом и сервером, то уже совсем не все равно, какие операционные системы используютс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6-07-04T08:35:07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